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0CD-5A03-45AA-AC9B-FC7FECBC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92B-E82A-4895-BADB-8EBFAC01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6D6-0523-4C41-A164-E1FC374B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46F-D02F-439B-8BE8-916DDC8D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235-50B5-45E3-8D28-C5BF19A8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03A-E33C-498D-AB2B-8EB63847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AFF-3395-4A8B-A207-1F01775C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470-B453-4416-A553-F55E3909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C1E-58E5-46F8-B6F8-BB25A585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CA7-4FAC-4A5F-842E-5C07FAFB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E7A-6E18-491C-9215-630CEF43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4B4-2997-43A1-A8CE-268923D0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539D-1B7A-44A6-B57E-2DBE1CD4F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5040" y="2727360"/>
            <a:ext cx="28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imes New Roman"/>
              </a:rPr>
              <a:t>Abba, 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24480" y="324000"/>
            <a:ext cx="5019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Abba Father, let me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Yours and Yours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May my will forever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Evermore Your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Never let my heart grow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Never let me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Abba Father, let me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Yours and Yours alone.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2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5:38:32Z</dcterms:created>
  <dc:creator>TrifonTrifonow</dc:creator>
  <dc:description/>
  <dc:language>en-US</dc:language>
  <cp:lastModifiedBy>TrifonTrifonow</cp:lastModifiedBy>
  <dcterms:modified xsi:type="dcterms:W3CDTF">2005-12-28T05:38:52Z</dcterms:modified>
  <cp:revision>1</cp:revision>
  <dc:subject/>
  <dc:title>Slide 1</dc:title>
</cp:coreProperties>
</file>